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50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25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13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48.wmf" ContentType="image/x-wmf"/>
  <Override PartName="/ppt/media/image11.wmf" ContentType="image/x-wmf"/>
  <Override PartName="/ppt/media/image38.wmf" ContentType="image/x-wmf"/>
  <Override PartName="/ppt/media/image8.wmf" ContentType="image/x-wmf"/>
  <Override PartName="/ppt/media/image49.wmf" ContentType="image/x-wmf"/>
  <Override PartName="/ppt/media/image12.wmf" ContentType="image/x-wmf"/>
  <Override PartName="/ppt/media/image10.wmf" ContentType="image/x-wmf"/>
  <Override PartName="/ppt/media/image47.wmf" ContentType="image/x-wmf"/>
  <Override PartName="/ppt/media/image7.wmf" ContentType="image/x-wmf"/>
  <Override PartName="/ppt/media/image37.wmf" ContentType="image/x-wmf"/>
  <Override PartName="/ppt/media/image6.wmf" ContentType="image/x-wmf"/>
  <Override PartName="/ppt/media/image36.wmf" ContentType="image/x-wmf"/>
  <Override PartName="/ppt/media/image5.wmf" ContentType="image/x-wmf"/>
  <Override PartName="/ppt/media/image35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0773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3966480"/>
            <a:ext cx="80773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2472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16400" y="159984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47720" y="159984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396648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16400" y="396648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47720" y="396648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44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990720" y="759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2472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80773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0773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440" y="3966480"/>
            <a:ext cx="80773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2472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416400" y="159984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47720" y="159984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440" y="396648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416400" y="396648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47720" y="396648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0720" y="759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2472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80773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44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cc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cc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934320" y="63961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cc"/>
                </a:solidFill>
                <a:latin typeface="Arial"/>
              </a:rPr>
              <a:t>Slide 3.1 - </a:t>
            </a:r>
            <a:fld id="{BD679CBA-F4EE-40B6-BEE9-8A6EDAE7BB9F}" type="slidenum">
              <a:rPr b="1" lang="en-US" sz="1200" spc="-1" strike="noStrike">
                <a:solidFill>
                  <a:srgbClr val="0000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14264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48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48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114264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700"/>
              </a:spcBef>
              <a:buClr>
                <a:srgbClr val="0000cc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700"/>
              </a:spcBef>
              <a:buClr>
                <a:srgbClr val="0099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700"/>
              </a:spcBef>
              <a:buClr>
                <a:srgbClr val="0000cc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7.wmf"/><Relationship Id="rId1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4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6.wmf"/><Relationship Id="rId1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3.wmf"/><Relationship Id="rId1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0.wmf"/><Relationship Id="rId1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3.wmf"/><Relationship Id="rId2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0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2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3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4.wmf"/><Relationship Id="rId2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655640" y="0"/>
            <a:ext cx="58327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83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4" name="" descr=""/>
            <p:cNvPicPr/>
            <p:nvPr/>
          </p:nvPicPr>
          <p:blipFill>
            <a:blip r:embed="rId2"/>
            <a:stretch/>
          </p:blipFill>
          <p:spPr>
            <a:xfrm>
              <a:off x="2104920" y="343080"/>
              <a:ext cx="4934160" cy="6172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Multiplic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09480" y="1945800"/>
            <a:ext cx="830592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2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       and        are real number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2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2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is not true when        and        are not real numb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2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2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e: Remember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–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1676520" y="1946160"/>
          <a:ext cx="495360" cy="44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946160"/>
                    <a:ext cx="4953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2901960" y="1946160"/>
          <a:ext cx="482760" cy="444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01960" y="1946160"/>
                    <a:ext cx="4827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6019920" y="1946160"/>
          <a:ext cx="2235240" cy="495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19920" y="1946160"/>
                    <a:ext cx="223524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" name=""/>
          <p:cNvGraphicFramePr/>
          <p:nvPr/>
        </p:nvGraphicFramePr>
        <p:xfrm>
          <a:off x="3803760" y="2987640"/>
          <a:ext cx="495360" cy="444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803760" y="2987640"/>
                    <a:ext cx="4953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"/>
          <p:cNvGraphicFramePr/>
          <p:nvPr/>
        </p:nvGraphicFramePr>
        <p:xfrm>
          <a:off x="5029200" y="2987640"/>
          <a:ext cx="482760" cy="444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029200" y="2987640"/>
                    <a:ext cx="4827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ampl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8305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2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ply and simplify each of the follow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800280" y="2057400"/>
          <a:ext cx="2400120" cy="44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0280" y="2057400"/>
                    <a:ext cx="240012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"/>
          <p:cNvGraphicFramePr/>
          <p:nvPr/>
        </p:nvGraphicFramePr>
        <p:xfrm>
          <a:off x="3619440" y="2057400"/>
          <a:ext cx="2629080" cy="45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19440" y="2057400"/>
                    <a:ext cx="262908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"/>
          <p:cNvGraphicFramePr/>
          <p:nvPr/>
        </p:nvGraphicFramePr>
        <p:xfrm>
          <a:off x="6705720" y="1981080"/>
          <a:ext cx="1765080" cy="520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705720" y="1981080"/>
                    <a:ext cx="1765080" cy="5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"/>
          <p:cNvSpPr/>
          <p:nvPr/>
        </p:nvSpPr>
        <p:spPr>
          <a:xfrm>
            <a:off x="609480" y="2832120"/>
            <a:ext cx="22100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2600" indent="-12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849240" y="3505320"/>
          <a:ext cx="5780160" cy="444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49240" y="3505320"/>
                    <a:ext cx="5780160" cy="44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" name=""/>
          <p:cNvGraphicFramePr/>
          <p:nvPr/>
        </p:nvGraphicFramePr>
        <p:xfrm>
          <a:off x="3301920" y="4267080"/>
          <a:ext cx="1447920" cy="304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301920" y="4267080"/>
                    <a:ext cx="14479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8" name=""/>
          <p:cNvGraphicFramePr/>
          <p:nvPr/>
        </p:nvGraphicFramePr>
        <p:xfrm>
          <a:off x="3276720" y="4813200"/>
          <a:ext cx="1117440" cy="3682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276720" y="4813200"/>
                    <a:ext cx="111744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3289320" y="5346720"/>
          <a:ext cx="1206360" cy="2919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289320" y="5346720"/>
                    <a:ext cx="1206360" cy="29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3289320" y="5880240"/>
          <a:ext cx="876240" cy="2919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289320" y="5880240"/>
                    <a:ext cx="876240" cy="29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ample </a:t>
            </a: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42674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2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lution continu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685800" y="1816200"/>
          <a:ext cx="5106960" cy="46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16200"/>
                    <a:ext cx="5106960" cy="46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3365640" y="2597040"/>
          <a:ext cx="2197080" cy="292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65640" y="2597040"/>
                    <a:ext cx="2197080" cy="29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3352680" y="3168720"/>
          <a:ext cx="1320840" cy="304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352680" y="3168720"/>
                    <a:ext cx="1320840" cy="30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711360" y="4114800"/>
          <a:ext cx="4838400" cy="520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11360" y="4114800"/>
                    <a:ext cx="483840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2552760" y="4800600"/>
          <a:ext cx="2247840" cy="368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552760" y="4800600"/>
                    <a:ext cx="224784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6" name=""/>
          <p:cNvGraphicFramePr/>
          <p:nvPr/>
        </p:nvGraphicFramePr>
        <p:xfrm>
          <a:off x="2552760" y="5492880"/>
          <a:ext cx="2019240" cy="2919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552760" y="5492880"/>
                    <a:ext cx="2019240" cy="29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8" name=""/>
          <p:cNvGraphicFramePr/>
          <p:nvPr/>
        </p:nvGraphicFramePr>
        <p:xfrm>
          <a:off x="2577960" y="6064200"/>
          <a:ext cx="1689120" cy="2923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577960" y="6064200"/>
                    <a:ext cx="1689120" cy="29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implifying Powers of </a:t>
            </a:r>
            <a:r>
              <a:rPr b="0" i="1" lang="en-US" sz="3600" spc="-1" strike="noStrike">
                <a:solidFill>
                  <a:srgbClr val="3333ff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8077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all tha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 raised to a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v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wer is 1, an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 raised to a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d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wer i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ifying power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then be done by using the fact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–1 and expressing the given power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term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077840" y="3505320"/>
          <a:ext cx="517068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7840" y="3505320"/>
                    <a:ext cx="517068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" name=""/>
          <p:cNvSpPr/>
          <p:nvPr/>
        </p:nvSpPr>
        <p:spPr>
          <a:xfrm>
            <a:off x="4800600" y="4114800"/>
            <a:ext cx="4114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e that power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ycle throug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–1, –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onjugate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conjuga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a complex number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is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The number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e 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complex conjugat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 + 7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and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7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4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5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and   14 + 5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and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product of a complex number and its conjugate is a real numb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Multiplying Conjugates - Exampl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ply each of the follow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.  (5 + 7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(5 – 7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.  (8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(–8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85800" y="2438280"/>
            <a:ext cx="77724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.  (5 + 7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(5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7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7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2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49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25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49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25 + 4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7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.  (8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(–8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4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4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6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Dividing Using Conjugates - Exampl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077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vide 2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5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y 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6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57200" y="1981080"/>
            <a:ext cx="8534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lution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ite fraction notation. Multiply by 1, using the conjugate of the denominator to form the symbol f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93800" y="3048120"/>
          <a:ext cx="2971800" cy="83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3800" y="3048120"/>
                    <a:ext cx="297180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5" name=""/>
          <p:cNvGraphicFramePr/>
          <p:nvPr/>
        </p:nvGraphicFramePr>
        <p:xfrm>
          <a:off x="1650960" y="4216320"/>
          <a:ext cx="2463840" cy="965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50960" y="4216320"/>
                    <a:ext cx="2463840" cy="96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7" name=""/>
          <p:cNvGraphicFramePr/>
          <p:nvPr/>
        </p:nvGraphicFramePr>
        <p:xfrm>
          <a:off x="1676520" y="5524560"/>
          <a:ext cx="2158920" cy="876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76520" y="5524560"/>
                    <a:ext cx="2158920" cy="8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6000840" y="3067200"/>
          <a:ext cx="1892160" cy="838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000840" y="3067200"/>
                    <a:ext cx="189216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1" name=""/>
          <p:cNvGraphicFramePr/>
          <p:nvPr/>
        </p:nvGraphicFramePr>
        <p:xfrm>
          <a:off x="6019920" y="4343400"/>
          <a:ext cx="1384200" cy="838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019920" y="4343400"/>
                    <a:ext cx="138420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3" name=""/>
          <p:cNvGraphicFramePr/>
          <p:nvPr/>
        </p:nvGraphicFramePr>
        <p:xfrm>
          <a:off x="6019920" y="5619600"/>
          <a:ext cx="1638360" cy="8384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019920" y="5619600"/>
                    <a:ext cx="163836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212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CHA</a:t>
            </a:r>
            <a:r>
              <a:rPr b="0" lang="en-US" sz="4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P</a:t>
            </a: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TER 3</a:t>
            </a:r>
            <a:r>
              <a:rPr b="0" lang="en-US" sz="4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: </a:t>
            </a:r>
            <a:br>
              <a:rPr sz="4400"/>
            </a:br>
            <a:r>
              <a:rPr b="0" lang="en-US" sz="4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Quadratic </a:t>
            </a: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Functions and Eq</a:t>
            </a:r>
            <a:r>
              <a:rPr b="0" lang="en-US" sz="4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u</a:t>
            </a: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at</a:t>
            </a:r>
            <a:r>
              <a:rPr b="0" lang="en-US" sz="4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io</a:t>
            </a: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ns; </a:t>
            </a:r>
            <a:r>
              <a:rPr b="0" lang="en-US" sz="4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Inequalities</a:t>
            </a:r>
            <a:endParaRPr b="0" lang="en-US" sz="4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990360" y="2514240"/>
            <a:ext cx="7467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8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Complex Nu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adratic Equations, Functions, Zeros, and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alyzing Graphs of Quadratic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ving Rational Equations and Radical Equ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ving Equations and Inequalities with Absolute Val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2.2 </a:t>
            </a:r>
            <a:br>
              <a:rPr sz="3600"/>
            </a:b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The Complex Numbers</a:t>
            </a:r>
            <a:br>
              <a:rPr sz="3600"/>
            </a:b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440" y="2286000"/>
            <a:ext cx="7543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SzPct val="75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form computations involving complex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umb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The Complex-Number System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488960"/>
            <a:ext cx="807732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functions have zeros that are not real numb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complex-number syste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used to find zeros of functions that are not real numb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looking at a graph of a function, if the grap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oes no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ross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axis, then it has n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intercepts, and thus it ha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al-number zer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ampl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80773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ess each number in term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147080" y="2165400"/>
            <a:ext cx="1311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762120" y="1752480"/>
          <a:ext cx="1130040" cy="44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752480"/>
                    <a:ext cx="113004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3657600" y="1752480"/>
          <a:ext cx="1320840" cy="444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57600" y="1752480"/>
                    <a:ext cx="132084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6566040" y="1752480"/>
          <a:ext cx="1600200" cy="444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566040" y="1752480"/>
                    <a:ext cx="160020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711360" y="2590920"/>
          <a:ext cx="1650960" cy="444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11360" y="2590920"/>
                    <a:ext cx="1650960" cy="44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3645000" y="2590920"/>
          <a:ext cx="1307880" cy="444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645000" y="2590920"/>
                    <a:ext cx="1307880" cy="44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762120" y="4114800"/>
          <a:ext cx="2476440" cy="4446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62120" y="4114800"/>
                    <a:ext cx="247644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685800" y="3429000"/>
            <a:ext cx="80773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3429000" y="4114800"/>
          <a:ext cx="1574640" cy="4446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429000" y="4114800"/>
                    <a:ext cx="157464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3429000" y="4724280"/>
          <a:ext cx="2222640" cy="4572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429000" y="4724280"/>
                    <a:ext cx="222264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762120" y="5562720"/>
          <a:ext cx="2819160" cy="4442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62120" y="5562720"/>
                    <a:ext cx="2819160" cy="44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3733920" y="5562720"/>
          <a:ext cx="1726920" cy="4442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733920" y="5562720"/>
                    <a:ext cx="1726920" cy="44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3733920" y="6254640"/>
          <a:ext cx="1485720" cy="2923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3733920" y="6254640"/>
                    <a:ext cx="1485720" cy="29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ample </a:t>
            </a: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3333ff"/>
              </a:solidFill>
              <a:latin typeface="Times New Roman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3289320" cy="44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3289320" cy="44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4178160" y="1676520"/>
          <a:ext cx="1917720" cy="444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78160" y="1676520"/>
                    <a:ext cx="1917720" cy="44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4165560" y="2286000"/>
          <a:ext cx="2997360" cy="457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65560" y="2286000"/>
                    <a:ext cx="299736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723960" y="3124080"/>
          <a:ext cx="3403440" cy="444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23960" y="3124080"/>
                    <a:ext cx="340344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4267080" y="3124080"/>
          <a:ext cx="1968480" cy="444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267080" y="3124080"/>
                    <a:ext cx="196848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4267080" y="3816360"/>
          <a:ext cx="1854360" cy="2919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267080" y="3816360"/>
                    <a:ext cx="1854360" cy="29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440" y="990360"/>
            <a:ext cx="3352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lution continu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755640" y="4413240"/>
          <a:ext cx="2832120" cy="4446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55640" y="4413240"/>
                    <a:ext cx="283212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3720960" y="4413240"/>
          <a:ext cx="1752840" cy="4446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720960" y="4413240"/>
                    <a:ext cx="175284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3733920" y="5029200"/>
          <a:ext cx="1384200" cy="4446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733920" y="5029200"/>
                    <a:ext cx="138420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3733920" y="5575320"/>
          <a:ext cx="1244520" cy="4446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733920" y="5575320"/>
                    <a:ext cx="124452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3733920" y="6114960"/>
          <a:ext cx="2590560" cy="4572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3733920" y="6114960"/>
                    <a:ext cx="259056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omplex Number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80010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complex numb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number of the for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real numbers. The numb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said to be th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al par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the numb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said to be th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maginary par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38080" y="3962520"/>
            <a:ext cx="333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maginary Numb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≠ 0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≠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724280" y="3962520"/>
            <a:ext cx="4038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ure Imaginary Numb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0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≠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Addition and Subtrac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90720" y="1828440"/>
            <a:ext cx="76197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lex numbers obey the commutative, associative, and distributive law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add or subtract them as we do binomia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ollect the real parts and the imaginary parts of complex numbers just as we collect like terms in binomia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ampl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212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or subtract and simplify each of the follow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.   (8 + 6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+ (3 + 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.   (4 + 5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– (6 – 3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685800" y="4648320"/>
            <a:ext cx="784872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.    (4 + 5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– (6 – 3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(4 – 6) + [5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–3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2 + 8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62120" y="2666880"/>
            <a:ext cx="77724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.   (8 + 6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+ (3 + 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(8 + 3) + (6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11 + (6 + 2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11 + 8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3276720" y="205740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205740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9T18:30:59Z</dcterms:created>
  <dc:creator>Addison Wesley</dc:creator>
  <dc:description/>
  <dc:language>en-US</dc:language>
  <cp:lastModifiedBy>Cathy Lovingier</cp:lastModifiedBy>
  <dcterms:modified xsi:type="dcterms:W3CDTF">2008-04-17T15:06:09Z</dcterms:modified>
  <cp:revision>230</cp:revision>
  <dc:subject/>
  <dc:title>No Slide Title</dc:title>
</cp:coreProperties>
</file>